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:\Users\Arvore Criativa\Desktop\Tributo ao Futuro\Guia Crescer em Rede (Volume 3)\bg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8" descr="C:\Users\Arvore Criativa\Desktop\Tributo ao Futuro\Guia Crescer em Rede (Volume 3)\Cap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Retângulo 5"/>
          <p:cNvSpPr/>
          <p:nvPr/>
        </p:nvSpPr>
        <p:spPr>
          <a:xfrm>
            <a:off x="0" y="3786120"/>
            <a:ext cx="9144000" cy="3071880"/>
          </a:xfrm>
          <a:prstGeom prst="rect">
            <a:avLst/>
          </a:prstGeom>
          <a:solidFill>
            <a:srgbClr val="0d0d0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CaixaDeTexto 6"/>
          <p:cNvSpPr/>
          <p:nvPr/>
        </p:nvSpPr>
        <p:spPr>
          <a:xfrm>
            <a:off x="1500120" y="3875040"/>
            <a:ext cx="721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Calibri"/>
              </a:rPr>
              <a:t>Crescer em Rede - Encontro 0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tângulo 9"/>
          <p:cNvSpPr/>
          <p:nvPr/>
        </p:nvSpPr>
        <p:spPr>
          <a:xfrm>
            <a:off x="0" y="4500720"/>
            <a:ext cx="9144000" cy="1000080"/>
          </a:xfrm>
          <a:prstGeom prst="rect">
            <a:avLst/>
          </a:prstGeom>
          <a:solidFill>
            <a:srgbClr val="e46c0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CaixaDeTexto 10"/>
          <p:cNvSpPr/>
          <p:nvPr/>
        </p:nvSpPr>
        <p:spPr>
          <a:xfrm>
            <a:off x="1285920" y="4643280"/>
            <a:ext cx="742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Segredos do universo: utilizando o software Celestia para conhecer e explorar o espaço sem misté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7"/>
          <p:cNvSpPr/>
          <p:nvPr/>
        </p:nvSpPr>
        <p:spPr>
          <a:xfrm>
            <a:off x="0" y="5500800"/>
            <a:ext cx="9144000" cy="13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Fundação Odebrecht"/>
          <p:cNvPicPr/>
          <p:nvPr/>
        </p:nvPicPr>
        <p:blipFill>
          <a:blip r:embed="rId2"/>
          <a:stretch/>
        </p:blipFill>
        <p:spPr>
          <a:xfrm>
            <a:off x="1571760" y="6099120"/>
            <a:ext cx="1357200" cy="349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3" descr="http://www.institutocrescer.org.br/imagens/cabecalho_logo.jpg"/>
          <p:cNvPicPr/>
          <p:nvPr/>
        </p:nvPicPr>
        <p:blipFill>
          <a:blip r:embed="rId3"/>
          <a:stretch/>
        </p:blipFill>
        <p:spPr>
          <a:xfrm>
            <a:off x="142920" y="5929200"/>
            <a:ext cx="1285920" cy="609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0" descr="C:\Users\Arvore Criativa\Google Drive\Slides Guia Crescer em Rede (Volume 3)\Slides modificados\unnamed.jpg"/>
          <p:cNvPicPr/>
          <p:nvPr/>
        </p:nvPicPr>
        <p:blipFill>
          <a:blip r:embed="rId4"/>
          <a:stretch/>
        </p:blipFill>
        <p:spPr>
          <a:xfrm>
            <a:off x="4000680" y="5913360"/>
            <a:ext cx="857160" cy="720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1" descr="C:\Users\Arvore Criativa\Google Drive\Slides Guia Crescer em Rede (Volume 3)\Slides modificados\Logomarca - NOVA.jpg"/>
          <p:cNvPicPr/>
          <p:nvPr/>
        </p:nvPicPr>
        <p:blipFill>
          <a:blip r:embed="rId5"/>
          <a:stretch/>
        </p:blipFill>
        <p:spPr>
          <a:xfrm>
            <a:off x="5000760" y="5786280"/>
            <a:ext cx="731880" cy="974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2" descr="C:\Users\Arvore Criativa\Google Drive\Slides Guia Crescer em Rede (Volume 3)\Slides modificados\LOGO-NP.jpg"/>
          <p:cNvPicPr/>
          <p:nvPr/>
        </p:nvPicPr>
        <p:blipFill>
          <a:blip r:embed="rId6"/>
          <a:stretch/>
        </p:blipFill>
        <p:spPr>
          <a:xfrm>
            <a:off x="6000840" y="6040440"/>
            <a:ext cx="1214280" cy="466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3" descr=""/>
          <p:cNvPicPr/>
          <p:nvPr/>
        </p:nvPicPr>
        <p:blipFill>
          <a:blip r:embed="rId7"/>
          <a:stretch/>
        </p:blipFill>
        <p:spPr>
          <a:xfrm>
            <a:off x="3071880" y="6046920"/>
            <a:ext cx="744480" cy="453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5" descr="http://salaaberta.files.wordpress.com/2013/04/net-educacao.jpg"/>
          <p:cNvPicPr/>
          <p:nvPr/>
        </p:nvPicPr>
        <p:blipFill>
          <a:blip r:embed="rId8"/>
          <a:stretch/>
        </p:blipFill>
        <p:spPr>
          <a:xfrm>
            <a:off x="7478640" y="5958000"/>
            <a:ext cx="1463760" cy="631800"/>
          </a:xfrm>
          <a:prstGeom prst="rect">
            <a:avLst/>
          </a:prstGeom>
          <a:ln w="0">
            <a:noFill/>
          </a:ln>
        </p:spPr>
      </p:pic>
      <p:sp>
        <p:nvSpPr>
          <p:cNvPr id="50" name="CaixaDeTexto 10"/>
          <p:cNvSpPr/>
          <p:nvPr/>
        </p:nvSpPr>
        <p:spPr>
          <a:xfrm>
            <a:off x="4857840" y="5595840"/>
            <a:ext cx="3143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a3400"/>
                </a:solidFill>
                <a:latin typeface="Calibri"/>
              </a:rPr>
              <a:t>Apoio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tângulo 5"/>
          <p:cNvSpPr/>
          <p:nvPr/>
        </p:nvSpPr>
        <p:spPr>
          <a:xfrm>
            <a:off x="0" y="1357200"/>
            <a:ext cx="500040" cy="285840"/>
          </a:xfrm>
          <a:prstGeom prst="rect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tângulo 6"/>
          <p:cNvSpPr/>
          <p:nvPr/>
        </p:nvSpPr>
        <p:spPr>
          <a:xfrm>
            <a:off x="500040" y="131436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O software Celestia como desta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Apresentação conceitual e t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aixaDeTexto 7"/>
          <p:cNvSpPr/>
          <p:nvPr/>
        </p:nvSpPr>
        <p:spPr>
          <a:xfrm>
            <a:off x="428760" y="2000160"/>
            <a:ext cx="8143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É gratuito, de fácil aquisição e instalação, tornando-se acessível a todos os usuári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Possui uma interface gráfica agradável e nítid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Sua visualização em 3ª dimensão possibilita a compreensão de muitos conceitos abstratos para a representação estátic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Ao contrário de outros softwares de Navegação Espacial, o Celestia consegue dar a ênfase necessária ao sistema solar, sem deixar de possibilitar a exploração de outras estrelas e corpos celestes conhecidos em outras galáx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Apresentação conceitual e t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aixaDeTexto 8"/>
          <p:cNvSpPr/>
          <p:nvPr/>
        </p:nvSpPr>
        <p:spPr>
          <a:xfrm>
            <a:off x="500040" y="1924200"/>
            <a:ext cx="7715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984807"/>
                </a:solidFill>
                <a:latin typeface="Calibri"/>
              </a:rPr>
              <a:t>O Celestia não mostra apenas a Terra, como alguns programas astronômicos, mas sim o Universo por inteiro. O Celestia usa imagens de alta qualidade, permitindo a aproximação do objeto sem muitas distorções. Com bons gráficos e fácil controle da câmera, os usuários podem explorar o Universo em busca de estrelas, planetas, luas, galáxias, nebulosas, aglomerados e outros objetos do espaç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Trindade e Silva,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Apresentação conceitual e t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aixaDeTexto 7"/>
          <p:cNvSpPr/>
          <p:nvPr/>
        </p:nvSpPr>
        <p:spPr>
          <a:xfrm>
            <a:off x="428760" y="2000160"/>
            <a:ext cx="8143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Existem inúmeras possibilidades educacionais para o uso do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CELESTIA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. Como ilustração apontamos as segui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Terra em destaque: 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Embora o software possibilite a exploração do universo em geral, o destaque dado ao Planeta Terra permite o trabalho mais pontual com Rotação, Translação, divisão continental, meridianos, escalas, distâncias, tamanhos, força gravitacional, entre outr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Viagens Espaciais: 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O programa apresenta possibilidades de simulação de viagens entre galáxias, planetas e corpos celestes, por meio da navegação. Com ela é possível traçar rotas e medir distâncias entre os corpos selecionad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tângulo 4"/>
          <p:cNvSpPr/>
          <p:nvPr/>
        </p:nvSpPr>
        <p:spPr>
          <a:xfrm>
            <a:off x="0" y="1357200"/>
            <a:ext cx="500040" cy="285840"/>
          </a:xfrm>
          <a:prstGeom prst="rect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tângulo 6"/>
          <p:cNvSpPr/>
          <p:nvPr/>
        </p:nvSpPr>
        <p:spPr>
          <a:xfrm>
            <a:off x="500040" y="131436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Possibilidades educacionais do Celest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Apresentação conceitual e t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aixaDeTexto 7"/>
          <p:cNvSpPr/>
          <p:nvPr/>
        </p:nvSpPr>
        <p:spPr>
          <a:xfrm>
            <a:off x="357120" y="1785960"/>
            <a:ext cx="81439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Informações e dados: 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Se a intenção é obter dados específicos de planetas e corpos celestes selecionados, como diâmetro, densidade, características, distância de um ponto determinado, entre outros, o software apresenta uma ficha completa para o usuário, possibilitando a elaboração de outros materiais nas atividades. Neste quesito, o software é uma excelente fonte de informaçõ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Comparações e agrupamentos: 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O recurso de divisão de tela possibilita a comparação entre planetas, estrelas ou a visualização de um planeta com suas luas, ampliando as possibilidades de exploração e análi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Filtros e ferramentas: 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Os diversos filtros disponíveis permitem a visualização de nuvens, atmosferas, sombras, anéis, grades e outros, tornando a mesma funcional aos objetos traçados para a utilização. Ferramentas como a Captura de vídeos e imagens estáticas, abrem um extenso leque de possibilidades de utilização por alunos e profess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tângulo 4"/>
          <p:cNvSpPr/>
          <p:nvPr/>
        </p:nvSpPr>
        <p:spPr>
          <a:xfrm>
            <a:off x="0" y="1357200"/>
            <a:ext cx="500040" cy="285840"/>
          </a:xfrm>
          <a:prstGeom prst="rect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tângulo 6"/>
          <p:cNvSpPr/>
          <p:nvPr/>
        </p:nvSpPr>
        <p:spPr>
          <a:xfrm>
            <a:off x="500040" y="131436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Possibilidades educacionais do Celest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Tutorial Celest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aixaDeTexto 7"/>
          <p:cNvSpPr/>
          <p:nvPr/>
        </p:nvSpPr>
        <p:spPr>
          <a:xfrm>
            <a:off x="500040" y="1857240"/>
            <a:ext cx="678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Para iniciar, baixe o programa Celestia no site </a:t>
            </a:r>
            <a:r>
              <a:rPr b="0" lang="pt-BR" sz="2000" spc="-1" strike="noStrike" u="sng">
                <a:solidFill>
                  <a:srgbClr val="404040"/>
                </a:solidFill>
                <a:uFillTx/>
                <a:latin typeface="Calibri"/>
              </a:rPr>
              <a:t>http://sourceforge.net/projects/celestia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/ ou em qualquer outro site de sua preferência que disponibiliza o softwa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Com o Software Celestia e seus complementos já instalados no computador procure o ícone  do mesmo e clique para inici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tângulo 4"/>
          <p:cNvSpPr/>
          <p:nvPr/>
        </p:nvSpPr>
        <p:spPr>
          <a:xfrm>
            <a:off x="0" y="1357200"/>
            <a:ext cx="500040" cy="285840"/>
          </a:xfrm>
          <a:prstGeom prst="rect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tângulo 6"/>
          <p:cNvSpPr/>
          <p:nvPr/>
        </p:nvSpPr>
        <p:spPr>
          <a:xfrm>
            <a:off x="500040" y="131436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Conhecendo o Celest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aixaDeTexto 7"/>
          <p:cNvSpPr/>
          <p:nvPr/>
        </p:nvSpPr>
        <p:spPr>
          <a:xfrm>
            <a:off x="500040" y="3990960"/>
            <a:ext cx="7858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Ao inicializar, o programa apresenta rapidamente o Sol e em seguida navega até a Terra, onde será o nosso ponto de partida. Ao clicar na barra de espaço é iniciada a movimentação de rotação do Planeta e de translação dos seus satélites. Por ser em tempo real, é quase imperceptível. As teclas </a:t>
            </a:r>
            <a:br>
              <a:rPr sz="2000"/>
            </a:b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L (acelera) e K (desacelera) 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configura o tempo da anim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laceholder 3" descr="Picture 2"/>
          <p:cNvPicPr/>
          <p:nvPr/>
        </p:nvPicPr>
        <p:blipFill>
          <a:blip r:embed="rId1"/>
          <a:stretch/>
        </p:blipFill>
        <p:spPr>
          <a:xfrm>
            <a:off x="7643880" y="2000160"/>
            <a:ext cx="60012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Tutorial Celest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aixaDeTexto 7"/>
          <p:cNvSpPr/>
          <p:nvPr/>
        </p:nvSpPr>
        <p:spPr>
          <a:xfrm>
            <a:off x="500040" y="1857240"/>
            <a:ext cx="3786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Ao selecionar um objeto as suas informações principais  aparecem no canto superior esquer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tângulo 4"/>
          <p:cNvSpPr/>
          <p:nvPr/>
        </p:nvSpPr>
        <p:spPr>
          <a:xfrm>
            <a:off x="0" y="1357200"/>
            <a:ext cx="500040" cy="285840"/>
          </a:xfrm>
          <a:prstGeom prst="rect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tângulo 6"/>
          <p:cNvSpPr/>
          <p:nvPr/>
        </p:nvSpPr>
        <p:spPr>
          <a:xfrm>
            <a:off x="500040" y="131436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Conhecendo o Celest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aixaDeTexto 7"/>
          <p:cNvSpPr/>
          <p:nvPr/>
        </p:nvSpPr>
        <p:spPr>
          <a:xfrm>
            <a:off x="500040" y="4214880"/>
            <a:ext cx="3500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Ao clicar com o botão direito em cima da seleção, abre um caixa de menu que possibilita executar alguns comandos sobre o obje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laceholder 3" descr="Picture 3"/>
          <p:cNvPicPr/>
          <p:nvPr/>
        </p:nvPicPr>
        <p:blipFill>
          <a:blip r:embed="rId1"/>
          <a:srcRect l="0" t="0" r="0" b="832"/>
          <a:stretch/>
        </p:blipFill>
        <p:spPr>
          <a:xfrm>
            <a:off x="5429160" y="1143000"/>
            <a:ext cx="3362400" cy="2498760"/>
          </a:xfrm>
          <a:prstGeom prst="rect">
            <a:avLst/>
          </a:prstGeom>
          <a:ln w="0">
            <a:noFill/>
          </a:ln>
        </p:spPr>
      </p:pic>
      <p:pic>
        <p:nvPicPr>
          <p:cNvPr id="109" name="Placeholder 3" descr="Picture 2"/>
          <p:cNvPicPr/>
          <p:nvPr/>
        </p:nvPicPr>
        <p:blipFill>
          <a:blip r:embed="rId2"/>
          <a:srcRect l="0" t="0" r="0" b="5246"/>
          <a:stretch/>
        </p:blipFill>
        <p:spPr>
          <a:xfrm>
            <a:off x="5475240" y="3757680"/>
            <a:ext cx="3357720" cy="2386080"/>
          </a:xfrm>
          <a:prstGeom prst="rect">
            <a:avLst/>
          </a:prstGeom>
          <a:ln w="0">
            <a:noFill/>
          </a:ln>
        </p:spPr>
      </p:pic>
      <p:cxnSp>
        <p:nvCxnSpPr>
          <p:cNvPr id="110" name="Straight Arrow Connector 2"/>
          <p:cNvCxnSpPr/>
          <p:nvPr/>
        </p:nvCxnSpPr>
        <p:spPr>
          <a:xfrm flipV="1">
            <a:off x="4357440" y="1785240"/>
            <a:ext cx="929160" cy="572040"/>
          </a:xfrm>
          <a:prstGeom prst="straightConnector1">
            <a:avLst/>
          </a:prstGeom>
          <a:ln w="25560">
            <a:solidFill>
              <a:srgbClr val="984807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Tutorial Celest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aixaDeTexto 7"/>
          <p:cNvSpPr/>
          <p:nvPr/>
        </p:nvSpPr>
        <p:spPr>
          <a:xfrm>
            <a:off x="500040" y="1285920"/>
            <a:ext cx="7929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Você pode iniciar a navegação pelo sistema solar de 2 maneiras: pelo menu do programa ou pelas teclas de atal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1ª opção: Menu do programa. 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Clicando na guia “Navegação” e em “Navegador do sistema Solar”, abrirá uma segunda caixa com as opções de planetas, satélites naturais e outros corpos celestes pertencentes ao sistema solar. Para navegar basta clicar no nome de interesse e no botão “Ir Para” e depois em OK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laceholder 3" descr="Picture 2"/>
          <p:cNvPicPr/>
          <p:nvPr/>
        </p:nvPicPr>
        <p:blipFill>
          <a:blip r:embed="rId1"/>
          <a:srcRect l="0" t="0" r="0" b="4838"/>
          <a:stretch/>
        </p:blipFill>
        <p:spPr>
          <a:xfrm>
            <a:off x="1265400" y="4083120"/>
            <a:ext cx="3247920" cy="2060640"/>
          </a:xfrm>
          <a:prstGeom prst="rect">
            <a:avLst/>
          </a:prstGeom>
          <a:ln w="0">
            <a:noFill/>
          </a:ln>
        </p:spPr>
      </p:pic>
      <p:pic>
        <p:nvPicPr>
          <p:cNvPr id="114" name="Placeholder 3" descr="Picture 3"/>
          <p:cNvPicPr/>
          <p:nvPr/>
        </p:nvPicPr>
        <p:blipFill>
          <a:blip r:embed="rId2"/>
          <a:stretch/>
        </p:blipFill>
        <p:spPr>
          <a:xfrm>
            <a:off x="5572080" y="4083120"/>
            <a:ext cx="21384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Tutorial Celest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CaixaDeTexto 7"/>
          <p:cNvSpPr/>
          <p:nvPr/>
        </p:nvSpPr>
        <p:spPr>
          <a:xfrm>
            <a:off x="500040" y="2500200"/>
            <a:ext cx="7358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Na mesma guia “Navegação” existem outras possibilidades de seleção, além do Menu para navegação estelar. Neste caso, a caixa que abre é semelhante a anterior, assim como os procedimento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Tutorial Celest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aixaDeTexto 7"/>
          <p:cNvSpPr/>
          <p:nvPr/>
        </p:nvSpPr>
        <p:spPr>
          <a:xfrm>
            <a:off x="500040" y="1428840"/>
            <a:ext cx="7358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2ª opção: Lista de comandos ou atalhos. 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Com o tempo você vai perceber que é mais fácil e rápido executar alguns comandos por atalhos nos botões do mouse ou teclas. Abaixo segue uma tabela com alguns comandos simples como exemp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laceholder 3" descr="Imagem 3"/>
          <p:cNvPicPr/>
          <p:nvPr/>
        </p:nvPicPr>
        <p:blipFill>
          <a:blip r:embed="rId1"/>
          <a:stretch/>
        </p:blipFill>
        <p:spPr>
          <a:xfrm>
            <a:off x="785880" y="3071880"/>
            <a:ext cx="749628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Tutorial Celest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CaixaDeTexto 7"/>
          <p:cNvSpPr/>
          <p:nvPr/>
        </p:nvSpPr>
        <p:spPr>
          <a:xfrm>
            <a:off x="500040" y="1428840"/>
            <a:ext cx="8215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Na guia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“Renderização” 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existe uma seleção de opções para configurar  a visualização. Vamos destacar  a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“Opções de visualização”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 onde a caixa de seleção nos permite adicionar e desabilitar filtros e  elementos de acordo com o obje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laceholder 3" descr="Picture 2"/>
          <p:cNvPicPr/>
          <p:nvPr/>
        </p:nvPicPr>
        <p:blipFill>
          <a:blip r:embed="rId1"/>
          <a:srcRect l="0" t="0" r="0" b="4946"/>
          <a:stretch/>
        </p:blipFill>
        <p:spPr>
          <a:xfrm>
            <a:off x="633240" y="3071880"/>
            <a:ext cx="3802320" cy="2857320"/>
          </a:xfrm>
          <a:prstGeom prst="rect">
            <a:avLst/>
          </a:prstGeom>
          <a:ln w="0">
            <a:noFill/>
          </a:ln>
        </p:spPr>
      </p:pic>
      <p:pic>
        <p:nvPicPr>
          <p:cNvPr id="123" name="Placeholder 3" descr="Picture 3"/>
          <p:cNvPicPr/>
          <p:nvPr/>
        </p:nvPicPr>
        <p:blipFill>
          <a:blip r:embed="rId2"/>
          <a:srcRect l="0" t="0" r="0" b="5379"/>
          <a:stretch/>
        </p:blipFill>
        <p:spPr>
          <a:xfrm>
            <a:off x="4808520" y="3071880"/>
            <a:ext cx="386892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CaixaDeTexto 7"/>
          <p:cNvSpPr/>
          <p:nvPr/>
        </p:nvSpPr>
        <p:spPr>
          <a:xfrm>
            <a:off x="500040" y="2571840"/>
            <a:ext cx="7786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Você já se questionou o porquê de assuntos relacionados ao universo e à astronomia despertarem tanto o interesse das pessoas, independente da ida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Diante de tamanho interesse por estes temas, qual a sua maior dificuldade em trabalhar com os mesm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Perguntas desafiado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tângulo 5"/>
          <p:cNvSpPr/>
          <p:nvPr/>
        </p:nvSpPr>
        <p:spPr>
          <a:xfrm>
            <a:off x="0" y="1357200"/>
            <a:ext cx="500040" cy="285840"/>
          </a:xfrm>
          <a:prstGeom prst="rect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tângulo 6"/>
          <p:cNvSpPr/>
          <p:nvPr/>
        </p:nvSpPr>
        <p:spPr>
          <a:xfrm>
            <a:off x="428760" y="1314360"/>
            <a:ext cx="27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84807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984807"/>
                </a:solidFill>
                <a:latin typeface="Calibri"/>
              </a:rPr>
              <a:t>Refli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Tutorial Celest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aixaDeTexto 7"/>
          <p:cNvSpPr/>
          <p:nvPr/>
        </p:nvSpPr>
        <p:spPr>
          <a:xfrm>
            <a:off x="500040" y="1555920"/>
            <a:ext cx="82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Na Guia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“Visão” 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é possível dividir a tela na quantidade desejada, podendo parear planetas diferentes para comparação ou visualizar um planeta com seus possíveis satélites natur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laceholder 3" descr="Picture 4"/>
          <p:cNvPicPr/>
          <p:nvPr/>
        </p:nvPicPr>
        <p:blipFill>
          <a:blip r:embed="rId1"/>
          <a:srcRect l="0" t="0" r="0" b="5773"/>
          <a:stretch/>
        </p:blipFill>
        <p:spPr>
          <a:xfrm>
            <a:off x="603360" y="2928960"/>
            <a:ext cx="3897360" cy="2543040"/>
          </a:xfrm>
          <a:prstGeom prst="rect">
            <a:avLst/>
          </a:prstGeom>
          <a:ln w="0">
            <a:noFill/>
          </a:ln>
        </p:spPr>
      </p:pic>
      <p:pic>
        <p:nvPicPr>
          <p:cNvPr id="127" name="Placeholder 3" descr="Picture 5"/>
          <p:cNvPicPr/>
          <p:nvPr/>
        </p:nvPicPr>
        <p:blipFill>
          <a:blip r:embed="rId2"/>
          <a:srcRect l="0" t="0" r="0" b="6319"/>
          <a:stretch/>
        </p:blipFill>
        <p:spPr>
          <a:xfrm>
            <a:off x="4857840" y="2955960"/>
            <a:ext cx="377172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Tutorial Celest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CaixaDeTexto 7"/>
          <p:cNvSpPr/>
          <p:nvPr/>
        </p:nvSpPr>
        <p:spPr>
          <a:xfrm>
            <a:off x="500040" y="1555920"/>
            <a:ext cx="82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Exemplo de divisão de tela apresentando imagens com filtros de órbitas, estrelas e outros habili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laceholder 3" descr="Picture 2"/>
          <p:cNvPicPr/>
          <p:nvPr/>
        </p:nvPicPr>
        <p:blipFill>
          <a:blip r:embed="rId1"/>
          <a:srcRect l="0" t="315" r="0" b="5556"/>
          <a:stretch/>
        </p:blipFill>
        <p:spPr>
          <a:xfrm>
            <a:off x="1660680" y="2335320"/>
            <a:ext cx="569736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Tutorial Celest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aixaDeTexto 7"/>
          <p:cNvSpPr/>
          <p:nvPr/>
        </p:nvSpPr>
        <p:spPr>
          <a:xfrm>
            <a:off x="500040" y="1792440"/>
            <a:ext cx="8215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Clicando na guia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“Arquivo” 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é possível a captura de imagens e vídeos. Para gravar um filme basta clicar no botão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“Capturar vídeo” 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na guia arquivo ou apertar as teclas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Shift+F10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. Aparecerá então uma caixa solicitando que informe  o nome e o local para salvar a produ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laceholder 3" descr="Picture 2"/>
          <p:cNvPicPr/>
          <p:nvPr/>
        </p:nvPicPr>
        <p:blipFill>
          <a:blip r:embed="rId1"/>
          <a:srcRect l="0" t="0" r="0" b="5098"/>
          <a:stretch/>
        </p:blipFill>
        <p:spPr>
          <a:xfrm>
            <a:off x="638280" y="3267000"/>
            <a:ext cx="3790800" cy="2733840"/>
          </a:xfrm>
          <a:prstGeom prst="rect">
            <a:avLst/>
          </a:prstGeom>
          <a:ln w="0">
            <a:noFill/>
          </a:ln>
        </p:spPr>
      </p:pic>
      <p:pic>
        <p:nvPicPr>
          <p:cNvPr id="134" name="Placeholder 3" descr="Picture 3"/>
          <p:cNvPicPr/>
          <p:nvPr/>
        </p:nvPicPr>
        <p:blipFill>
          <a:blip r:embed="rId2"/>
          <a:stretch/>
        </p:blipFill>
        <p:spPr>
          <a:xfrm>
            <a:off x="4913280" y="3267000"/>
            <a:ext cx="3764160" cy="2733840"/>
          </a:xfrm>
          <a:prstGeom prst="rect">
            <a:avLst/>
          </a:prstGeom>
          <a:ln w="0">
            <a:noFill/>
          </a:ln>
        </p:spPr>
      </p:pic>
      <p:sp>
        <p:nvSpPr>
          <p:cNvPr id="135" name="Retângulo 12"/>
          <p:cNvSpPr/>
          <p:nvPr/>
        </p:nvSpPr>
        <p:spPr>
          <a:xfrm>
            <a:off x="0" y="1357200"/>
            <a:ext cx="500040" cy="285840"/>
          </a:xfrm>
          <a:prstGeom prst="rect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tângulo 6"/>
          <p:cNvSpPr/>
          <p:nvPr/>
        </p:nvSpPr>
        <p:spPr>
          <a:xfrm>
            <a:off x="500040" y="131436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Captura de vídeo e imag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Tutorial Celest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ixaDeTexto 7"/>
          <p:cNvSpPr/>
          <p:nvPr/>
        </p:nvSpPr>
        <p:spPr>
          <a:xfrm>
            <a:off x="500040" y="1792440"/>
            <a:ext cx="8215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Na segunda caixa é possível escolher  o tamanho da área de gravação. Se a área não for total será visualizada uma linha vermelha  limitando a área de gravação. Iniciada a gravação basta seguir com a exploração ou navegação normalmente. Para pausar/retomar aperte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F11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 e para parar aperte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F12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Ao encerrar, o vídeo é gerado automatic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tângulo 12"/>
          <p:cNvSpPr/>
          <p:nvPr/>
        </p:nvSpPr>
        <p:spPr>
          <a:xfrm>
            <a:off x="0" y="1357200"/>
            <a:ext cx="500040" cy="285840"/>
          </a:xfrm>
          <a:prstGeom prst="rect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tângulo 6"/>
          <p:cNvSpPr/>
          <p:nvPr/>
        </p:nvSpPr>
        <p:spPr>
          <a:xfrm>
            <a:off x="500040" y="131436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Captura de vídeo e imag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laceholder 3" descr="Picture 4"/>
          <p:cNvPicPr/>
          <p:nvPr/>
        </p:nvPicPr>
        <p:blipFill>
          <a:blip r:embed="rId1"/>
          <a:stretch/>
        </p:blipFill>
        <p:spPr>
          <a:xfrm>
            <a:off x="649440" y="3643200"/>
            <a:ext cx="4092480" cy="2271960"/>
          </a:xfrm>
          <a:prstGeom prst="rect">
            <a:avLst/>
          </a:prstGeom>
          <a:ln w="0">
            <a:noFill/>
          </a:ln>
        </p:spPr>
      </p:pic>
      <p:pic>
        <p:nvPicPr>
          <p:cNvPr id="142" name="Placeholder 3" descr="Picture 5"/>
          <p:cNvPicPr/>
          <p:nvPr/>
        </p:nvPicPr>
        <p:blipFill>
          <a:blip r:embed="rId2"/>
          <a:srcRect l="0" t="0" r="0" b="5292"/>
          <a:stretch/>
        </p:blipFill>
        <p:spPr>
          <a:xfrm>
            <a:off x="5029200" y="3643200"/>
            <a:ext cx="3708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Atividade de experim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aixaDeTexto 7"/>
          <p:cNvSpPr/>
          <p:nvPr/>
        </p:nvSpPr>
        <p:spPr>
          <a:xfrm>
            <a:off x="500040" y="1357200"/>
            <a:ext cx="8215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Vamos explorar este software instigante?  Para começar apreciem este vídeo do sistema solar produzido a partir do CELESTIA. </a:t>
            </a:r>
            <a:r>
              <a:rPr b="0" lang="pt-BR" sz="2000" spc="-1" strike="noStrike" u="sng">
                <a:solidFill>
                  <a:srgbClr val="404040"/>
                </a:solidFill>
                <a:uFillTx/>
                <a:latin typeface="Calibri"/>
              </a:rPr>
              <a:t>https://www.youtube.com/watch?v=Q9wE-0BRUS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Organizem-se em grupos para produzir um vídeo contendo a navegação entre dois 2 planetas do sistema solar com informações interessantes sobre os planetas específicos. Vocês podem utilizar outros filtros disponíveis que incrementem as informações, de acordo com a intenção do gru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Utilizem o recurso de gravação antes de iniciar a navegação para capturar a tela. Após a conclusão, salvem em local específico determinado pelo form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Agora é hora de socializar! Cada grupo apresentará seu vídeo para os demais</a:t>
            </a:r>
            <a:r>
              <a:rPr b="0" lang="pt-BR" sz="2000" spc="-1" strike="noStrike">
                <a:solidFill>
                  <a:srgbClr val="7e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Planejamento da ativ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aixaDeTexto 7"/>
          <p:cNvSpPr/>
          <p:nvPr/>
        </p:nvSpPr>
        <p:spPr>
          <a:xfrm>
            <a:off x="500040" y="1500120"/>
            <a:ext cx="7929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Agora, junto com seus colegas de formação, planeje uma atividade para ser vivenciada pelos alu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Exemplo: 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atividade a partir do recurso de divisão da tela e visualização de mais de um elemento ao mesmo temp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Contribuição desta atividade para o processo educacion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Pode auxiliar na comparação de tamanhos, dados, aspectos físicos ou para juntar elementos complementares, como planetas e seus respectivos satélites naturais, entre ou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Como produto desta atividade, os alunos poderiam produzir jogos, tais como jogo da memória, Super Trunfo ou mesmo cartaze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Síntese e avaliação do encon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CaixaDeTexto 7"/>
          <p:cNvSpPr/>
          <p:nvPr/>
        </p:nvSpPr>
        <p:spPr>
          <a:xfrm>
            <a:off x="428760" y="1549440"/>
            <a:ext cx="81439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Conseguimos repensar a necessidade e a importância de diversificar o trabalho relacionado à astronomia e seus conteúdos relacionad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Conseguimos refletir sobre as potencialidades do uso de softwares de navegação espacial na educaçã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A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apresentação conceitual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 foi capaz de promover a reflexão coletiva e apresentar as vantagens e pontos conflituosos com o desenvolvimento do conteú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Síntese e avaliação do encon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CaixaDeTexto 7"/>
          <p:cNvSpPr/>
          <p:nvPr/>
        </p:nvSpPr>
        <p:spPr>
          <a:xfrm>
            <a:off x="428760" y="1549440"/>
            <a:ext cx="8143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A apresentação e exploração do Software Celestia, como recurso interativo educacional, foi capaz de auxiliar no planejamento de novas atividades  para serem vivenciadas com os alun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A atividade de experimentação te proporcionou um primeiro contato com o software e te instigou a continuar a usá-l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Agora, para finalizar, vamos preencher a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Avaliação do Encontro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tângulo 5"/>
          <p:cNvSpPr/>
          <p:nvPr/>
        </p:nvSpPr>
        <p:spPr>
          <a:xfrm>
            <a:off x="0" y="1357200"/>
            <a:ext cx="500040" cy="285840"/>
          </a:xfrm>
          <a:prstGeom prst="rect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tângulo 6"/>
          <p:cNvSpPr/>
          <p:nvPr/>
        </p:nvSpPr>
        <p:spPr>
          <a:xfrm>
            <a:off x="500040" y="131436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O trabalho com Astronom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Apresentação conceitual e t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aixaDeTexto 8"/>
          <p:cNvSpPr/>
          <p:nvPr/>
        </p:nvSpPr>
        <p:spPr>
          <a:xfrm>
            <a:off x="500040" y="2643120"/>
            <a:ext cx="7715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O crescente interesse despertado por temas relacionados à astronomia e ao universo de modo geral, tornam este campo um terreno fértil para o desenvolvimento de muitas propostas. Mas o que faz deste tema ser atual e interessante independente da época, local ou cultu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tângulo 5"/>
          <p:cNvSpPr/>
          <p:nvPr/>
        </p:nvSpPr>
        <p:spPr>
          <a:xfrm>
            <a:off x="0" y="1357200"/>
            <a:ext cx="500040" cy="285840"/>
          </a:xfrm>
          <a:prstGeom prst="rect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tângulo 6"/>
          <p:cNvSpPr/>
          <p:nvPr/>
        </p:nvSpPr>
        <p:spPr>
          <a:xfrm>
            <a:off x="500040" y="131436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O trabalho com Astronom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Apresentação conceitual e t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aixaDeTexto 8"/>
          <p:cNvSpPr/>
          <p:nvPr/>
        </p:nvSpPr>
        <p:spPr>
          <a:xfrm>
            <a:off x="500040" y="1879560"/>
            <a:ext cx="7715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Além do interesse pelo desconhecido e pelos mistérios distantes de nós,  Ferreira e Meglhioratti (2011) destacam que o grande interesse parte principalmente da necessidade humana em responder questões, sempre atuais, sobre a sua existência, a criação, além de especulações instigantes sobre possíveis formas de vidas em outros planetas, entre ou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No meio educacional as possibilidades de relações destes temas com conteúdos  considerados muitas vezes distante e abstrato pode aproximá-los do cotidiano social, atribuindo valor e significado de forma motivadora e curio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Apresentação conceitual e t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aixaDeTexto 7"/>
          <p:cNvSpPr/>
          <p:nvPr/>
        </p:nvSpPr>
        <p:spPr>
          <a:xfrm>
            <a:off x="500040" y="1857240"/>
            <a:ext cx="8143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De certa forma, tal motivação deveria ser por si só uma grande alavanca para impulsionar a aprendizagem de conteúdos mais abstratos, porém ao trabalhar os conteúdos relacionados à astronomia nos deparamos com outras dificulda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Representações de conceitos e conteúdos a partir de dinâmicas e atividades práticas distantes do re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Distorções e interpretações errôneas a partir de imagens e ilustrações sobre o tem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Carência de materiais audiovisuais para instrumentalizar a aul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Dificuldade de obter maior interação e visualização de representações mais reais de certos eve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tângulo 4"/>
          <p:cNvSpPr/>
          <p:nvPr/>
        </p:nvSpPr>
        <p:spPr>
          <a:xfrm>
            <a:off x="0" y="1357200"/>
            <a:ext cx="500040" cy="285840"/>
          </a:xfrm>
          <a:prstGeom prst="rect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tângulo 6"/>
          <p:cNvSpPr/>
          <p:nvPr/>
        </p:nvSpPr>
        <p:spPr>
          <a:xfrm>
            <a:off x="500040" y="131436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As dificuldades encontradas com este trabal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tângulo 5"/>
          <p:cNvSpPr/>
          <p:nvPr/>
        </p:nvSpPr>
        <p:spPr>
          <a:xfrm>
            <a:off x="0" y="1357200"/>
            <a:ext cx="500040" cy="285840"/>
          </a:xfrm>
          <a:prstGeom prst="rect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tângulo 6"/>
          <p:cNvSpPr/>
          <p:nvPr/>
        </p:nvSpPr>
        <p:spPr>
          <a:xfrm>
            <a:off x="500040" y="131436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As dificuldades encontradas com este trabal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Apresentação conceitual e t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aixaDeTexto 8"/>
          <p:cNvSpPr/>
          <p:nvPr/>
        </p:nvSpPr>
        <p:spPr>
          <a:xfrm>
            <a:off x="500040" y="1857240"/>
            <a:ext cx="77151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Embora algumas atividades e materiais possam tornar a aula mais dinâmica e interessante, tais procedimentos podem dificultar o estabelecimento de relações entre o conteúdo apresentado e o fenômeno real, contribuindo para a construção de concepções deturpadas ou err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Diante desta situação nos perguntamos: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O que fazer para aproximar conteúdos abstratos e difíceis de exemplificar da vida escolar de forma interativa e estimulan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tângulo 5"/>
          <p:cNvSpPr/>
          <p:nvPr/>
        </p:nvSpPr>
        <p:spPr>
          <a:xfrm>
            <a:off x="0" y="1357200"/>
            <a:ext cx="500040" cy="285840"/>
          </a:xfrm>
          <a:prstGeom prst="rect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tângulo 6"/>
          <p:cNvSpPr/>
          <p:nvPr/>
        </p:nvSpPr>
        <p:spPr>
          <a:xfrm>
            <a:off x="500040" y="131436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Softwares de Navegação Espa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Apresentação conceitual e t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aixaDeTexto 8"/>
          <p:cNvSpPr/>
          <p:nvPr/>
        </p:nvSpPr>
        <p:spPr>
          <a:xfrm>
            <a:off x="500040" y="1924200"/>
            <a:ext cx="77151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Uma forma de tornar o trabalho com conteúdos ligados ao sistema solar, universo e astronomia, como um todo, mais interativo e próximo do real é a utilização de softwares de navegação espacial nas aulas. Estes materiais possibilitam a visualização de eventos com uma representação muito próxima do re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A interação promovida entre o usuário e o </a:t>
            </a:r>
            <a:r>
              <a:rPr b="0" i="1" lang="pt-BR" sz="2000" spc="-1" strike="noStrike">
                <a:solidFill>
                  <a:srgbClr val="984807"/>
                </a:solidFill>
                <a:latin typeface="Calibri"/>
              </a:rPr>
              <a:t>software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 possibilita uma atuação ativa em relação aos conteúdos, diminuindo possíveis concepções errôneas, muito comuns em certos eventos e te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tângulo 5"/>
          <p:cNvSpPr/>
          <p:nvPr/>
        </p:nvSpPr>
        <p:spPr>
          <a:xfrm>
            <a:off x="0" y="1357200"/>
            <a:ext cx="500040" cy="285840"/>
          </a:xfrm>
          <a:prstGeom prst="rect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tângulo 6"/>
          <p:cNvSpPr/>
          <p:nvPr/>
        </p:nvSpPr>
        <p:spPr>
          <a:xfrm>
            <a:off x="500040" y="131436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Softwares de Navegação Espa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Apresentação conceitual e t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aixaDeTexto 8"/>
          <p:cNvSpPr/>
          <p:nvPr/>
        </p:nvSpPr>
        <p:spPr>
          <a:xfrm>
            <a:off x="500040" y="1924200"/>
            <a:ext cx="77151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O interesse pela aula e pelos temas podem ser potencializados pela interatividade, atuação e diversificação das estratégias metodológicas. Geralmente há uma maior participação dos alunos quando entram em contato com recursos que os aproximam de sua vivência cotidi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Alguns softwares de navegação espacial focam em eventos ou áreas determinadas, apresentando de forma mais profunda conteúdos menos abrangentes. Neste caso, a dificuldade está em haver a necessidade de utilização de vários programas para um trabalho mais exten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tângulo 5"/>
          <p:cNvSpPr/>
          <p:nvPr/>
        </p:nvSpPr>
        <p:spPr>
          <a:xfrm>
            <a:off x="0" y="1357200"/>
            <a:ext cx="500040" cy="285840"/>
          </a:xfrm>
          <a:prstGeom prst="rect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tângulo 6"/>
          <p:cNvSpPr/>
          <p:nvPr/>
        </p:nvSpPr>
        <p:spPr>
          <a:xfrm>
            <a:off x="500040" y="131436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O software Celestia como desta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Apresentação conceitual e t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aixaDeTexto 7"/>
          <p:cNvSpPr/>
          <p:nvPr/>
        </p:nvSpPr>
        <p:spPr>
          <a:xfrm>
            <a:off x="428760" y="2000160"/>
            <a:ext cx="81439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Em meio a grande quantidade de software de navegação espacial o CELESTIA se destaca principalmente pelos seguintes pon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É um Software livre, de código aberto e por conseguinte em constante atualização para aprimorament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Possui uma considerada comunidade de estudo e criação de complementos, extensões e filtros que possibilita a personalização do software de acordo com a necessida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6T20:31:07Z</dcterms:created>
  <dc:creator>Augusto</dc:creator>
  <dc:description/>
  <dc:language>en-US</dc:language>
  <cp:lastModifiedBy>Ju Ribeiro</cp:lastModifiedBy>
  <dcterms:modified xsi:type="dcterms:W3CDTF">2014-09-08T18:32:33Z</dcterms:modified>
  <cp:revision>193</cp:revision>
  <dc:subject/>
  <dc:title>Slide 1</dc:title>
</cp:coreProperties>
</file>